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22.wmf" ContentType="image/x-wmf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6839C-A249-400E-B7D0-DB000D843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C8E98-4DF0-4C23-AAD4-9FA2E0ACD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062B4-4344-4D33-B1E8-D749539FB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6E25B-6EF6-4698-8ABA-47D6AD222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843C7-9853-4967-8649-781FBD8A7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642EC-2A43-441E-9A11-3D3779D68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AB0FF-2E8F-46EB-A299-7350B3CB2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EBCCB-3938-4813-8451-638359EFB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8F9FD-7D2E-4D84-A69B-8238EDDD2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B349B-0A81-43EA-80B5-783807F2A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BACEC-19DF-4A5E-93AA-A38ADBB9D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0BE61-A32A-43FB-88EF-47ECD47BC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03F64-4063-4817-96C8-2A07C961D3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1.jpeg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7010280"/>
            <a:ext cx="5029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Stte. (Ej.) Medina Colón Antoni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Stte. (Ej.) Sojo Hernández Fernan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E01852_" descr=""/>
          <p:cNvPicPr/>
          <p:nvPr/>
        </p:nvPicPr>
        <p:blipFill>
          <a:blip r:embed="rId1"/>
          <a:stretch/>
        </p:blipFill>
        <p:spPr>
          <a:xfrm>
            <a:off x="2286000" y="3200400"/>
            <a:ext cx="3751200" cy="34686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304920" y="304920"/>
            <a:ext cx="6248160" cy="861048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838080"/>
            <a:ext cx="5562720" cy="221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Orden Abierto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ENCIÓ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533520" y="2590920"/>
            <a:ext cx="5790960" cy="5562360"/>
            <a:chOff x="533520" y="2590920"/>
            <a:chExt cx="5790960" cy="5562360"/>
          </a:xfrm>
        </p:grpSpPr>
        <p:pic>
          <p:nvPicPr>
            <p:cNvPr id="93" name="MVC-007F" descr=""/>
            <p:cNvPicPr/>
            <p:nvPr/>
          </p:nvPicPr>
          <p:blipFill>
            <a:blip r:embed="rId1">
              <a:lum bright="24000"/>
            </a:blip>
            <a:stretch/>
          </p:blipFill>
          <p:spPr>
            <a:xfrm>
              <a:off x="533520" y="2590920"/>
              <a:ext cx="5790960" cy="556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1558080" y="3397320"/>
              <a:ext cx="1158120" cy="604800"/>
            </a:xfrm>
            <a:prstGeom prst="leftRightArrow">
              <a:avLst>
                <a:gd name="adj1" fmla="val 50000"/>
                <a:gd name="adj2" fmla="val 3812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" name=""/>
          <p:cNvSpPr/>
          <p:nvPr/>
        </p:nvSpPr>
        <p:spPr>
          <a:xfrm>
            <a:off x="304920" y="304920"/>
            <a:ext cx="6248160" cy="861048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EMIGO A LA VISTA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MVC-001F" descr=""/>
          <p:cNvPicPr/>
          <p:nvPr/>
        </p:nvPicPr>
        <p:blipFill>
          <a:blip r:embed="rId1">
            <a:lum bright="24000"/>
          </a:blip>
          <a:stretch/>
        </p:blipFill>
        <p:spPr>
          <a:xfrm>
            <a:off x="514440" y="3225960"/>
            <a:ext cx="5829120" cy="431784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304920" y="304920"/>
            <a:ext cx="6248160" cy="861048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AR BAYONETA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MVC-010F" descr="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457200" y="2895480"/>
            <a:ext cx="5829480" cy="39816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304920" y="304920"/>
            <a:ext cx="6248160" cy="861048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 TROT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MVC-016F" descr=""/>
          <p:cNvPicPr/>
          <p:nvPr/>
        </p:nvPicPr>
        <p:blipFill>
          <a:blip r:embed="rId1"/>
          <a:stretch/>
        </p:blipFill>
        <p:spPr>
          <a:xfrm>
            <a:off x="514440" y="2743200"/>
            <a:ext cx="5829120" cy="461016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304920" y="304920"/>
            <a:ext cx="6248160" cy="861048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MBO ABIERTO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MVC-013F" descr=""/>
          <p:cNvPicPr/>
          <p:nvPr/>
        </p:nvPicPr>
        <p:blipFill>
          <a:blip r:embed="rId1"/>
          <a:stretch/>
        </p:blipFill>
        <p:spPr>
          <a:xfrm>
            <a:off x="514440" y="2819520"/>
            <a:ext cx="5829120" cy="450504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04920" y="304920"/>
            <a:ext cx="6248160" cy="861048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COMPRENDO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MVC-011F" descr=""/>
          <p:cNvPicPr/>
          <p:nvPr/>
        </p:nvPicPr>
        <p:blipFill>
          <a:blip r:embed="rId1"/>
          <a:stretch/>
        </p:blipFill>
        <p:spPr>
          <a:xfrm>
            <a:off x="514440" y="2819520"/>
            <a:ext cx="5829120" cy="436716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304920" y="304920"/>
            <a:ext cx="6248160" cy="861048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SEN FUEGO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MVC-005F" descr=""/>
          <p:cNvPicPr/>
          <p:nvPr/>
        </p:nvPicPr>
        <p:blipFill>
          <a:blip r:embed="rId1"/>
          <a:stretch/>
        </p:blipFill>
        <p:spPr>
          <a:xfrm>
            <a:off x="514440" y="3133800"/>
            <a:ext cx="5829120" cy="450216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304920" y="304920"/>
            <a:ext cx="6248160" cy="861048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MPAN FUEGO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MVC-003F" descr=""/>
          <p:cNvPicPr/>
          <p:nvPr/>
        </p:nvPicPr>
        <p:blipFill>
          <a:blip r:embed="rId1"/>
          <a:stretch/>
        </p:blipFill>
        <p:spPr>
          <a:xfrm>
            <a:off x="514440" y="3219480"/>
            <a:ext cx="5829120" cy="43308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304920" y="304920"/>
            <a:ext cx="6248160" cy="861048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LUMNA DE MARCHA</a:t>
            </a:r>
            <a:br>
              <a:rPr sz="4400"/>
            </a:br>
            <a:r>
              <a:rPr b="1" lang="es-ES_tradnl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MVC-010F" descr=""/>
          <p:cNvPicPr/>
          <p:nvPr/>
        </p:nvPicPr>
        <p:blipFill>
          <a:blip r:embed="rId1"/>
          <a:stretch/>
        </p:blipFill>
        <p:spPr>
          <a:xfrm>
            <a:off x="514440" y="2743200"/>
            <a:ext cx="5829120" cy="450072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 rot="15123600">
            <a:off x="2057400" y="4190760"/>
            <a:ext cx="2133360" cy="2133720"/>
          </a:xfrm>
          <a:custGeom>
            <a:avLst/>
            <a:gdLst>
              <a:gd name="textAreaLeft" fmla="*/ 0 w 2133360"/>
              <a:gd name="textAreaRight" fmla="*/ 2133720 w 2133360"/>
              <a:gd name="textAreaTop" fmla="*/ 0 h 2133720"/>
              <a:gd name="textAreaBottom" fmla="*/ 2134080 h 2133720"/>
            </a:gdLst>
            <a:ahLst/>
            <a:rect l="textAreaLeft" t="textAreaTop" r="textAreaRight" b="textAreaBottom"/>
            <a:pathLst>
              <a:path w="21600" h="21600">
                <a:moveTo>
                  <a:pt x="3349" y="10623"/>
                </a:moveTo>
                <a:arcTo wR="-7453" hR="-7453" stAng="-10718351" swAng="-15647863"/>
                <a:lnTo>
                  <a:pt x="8820" y="21417"/>
                </a:lnTo>
                <a:arcTo wR="10800" hR="10800" stAng="6033786" swAng="15647863"/>
                <a:lnTo>
                  <a:pt x="24296" y="11121"/>
                </a:lnTo>
                <a:lnTo>
                  <a:pt x="19820" y="15389"/>
                </a:lnTo>
                <a:lnTo>
                  <a:pt x="15552" y="10913"/>
                </a:lnTo>
                <a:close/>
              </a:path>
            </a:pathLst>
          </a:custGeom>
          <a:solidFill>
            <a:srgbClr val="ffff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04920" y="304920"/>
            <a:ext cx="6248160" cy="861048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FUEGO Y MOVIMIENTO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s dos equipos de fusileros de la escuadra, le proporcionan al jefe de escuadra dos elementos con los cuales ejecutar el fuego y movimiento. Un equipo de fusileros es el elemento de movimiento, mientras que el otro es el elemento apoyo de fuego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04920" y="304920"/>
            <a:ext cx="6248160" cy="861048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76320" y="333360"/>
            <a:ext cx="6553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ESCUADRA DE FUSILE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</a:t>
            </a:r>
            <a:r>
              <a:rPr b="1" lang="pt-B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 la unidad básica de tiro, instrucción y  adiestramiento de la infanterí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2438280"/>
            <a:ext cx="6172200" cy="71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5760" indent="-455760" algn="just"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 algn="ctr"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s-ES" sz="2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ORGANIZACIÓN</a:t>
            </a:r>
            <a:r>
              <a:rPr b="0" lang="es-ES" sz="1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es-MX" sz="1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 algn="just"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escuadra de fusileros es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 algn="just"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tituida</a:t>
            </a:r>
            <a:r>
              <a:rPr b="1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 algn="just"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.  </a:t>
            </a:r>
            <a:r>
              <a:rPr b="1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Un jefe de escuadr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 algn="just"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 algn="just"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.    </a:t>
            </a:r>
            <a:r>
              <a:rPr b="1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s jefes de equip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 algn="just"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 algn="just"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.    </a:t>
            </a:r>
            <a:r>
              <a:rPr b="1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s fusileros granader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 algn="just"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 algn="just"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.    </a:t>
            </a:r>
            <a:r>
              <a:rPr b="1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s fusileros  AT-4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 algn="just"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 algn="just"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.    </a:t>
            </a:r>
            <a:r>
              <a:rPr b="1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s Fusilero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 algn="just"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 algn="just"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61760"/>
            <a:ext cx="5829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04920" y="304920"/>
            <a:ext cx="6248160" cy="861048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33520" y="3048120"/>
            <a:ext cx="228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"/>
          <p:cNvGrpSpPr/>
          <p:nvPr/>
        </p:nvGrpSpPr>
        <p:grpSpPr>
          <a:xfrm>
            <a:off x="533520" y="1371600"/>
            <a:ext cx="5790960" cy="7391160"/>
            <a:chOff x="533520" y="1371600"/>
            <a:chExt cx="5790960" cy="7391160"/>
          </a:xfrm>
        </p:grpSpPr>
        <p:sp>
          <p:nvSpPr>
            <p:cNvPr id="125" name=""/>
            <p:cNvSpPr/>
            <p:nvPr/>
          </p:nvSpPr>
          <p:spPr>
            <a:xfrm>
              <a:off x="599400" y="8242560"/>
              <a:ext cx="44654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100" spc="-1" strike="noStrike">
                  <a:solidFill>
                    <a:srgbClr val="000000"/>
                  </a:solidFill>
                  <a:latin typeface="Times New Roman"/>
                </a:rPr>
                <a:t>                                  </a:t>
              </a:r>
              <a:r>
                <a:rPr b="1" lang="es-ES" sz="1800" spc="-1" strike="noStrike">
                  <a:solidFill>
                    <a:srgbClr val="ff0000"/>
                  </a:solidFill>
                  <a:latin typeface="Times New Roman"/>
                </a:rPr>
                <a:t>FUEGO Y MOVIMIENTOS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ff0000"/>
                  </a:solidFill>
                  <a:latin typeface="Times New Roman"/>
                </a:rPr>
                <a:t>                                </a:t>
              </a:r>
              <a:r>
                <a:rPr b="1" lang="es-ES" sz="1800" spc="-1" strike="noStrike">
                  <a:solidFill>
                    <a:srgbClr val="ff0000"/>
                  </a:solidFill>
                  <a:latin typeface="Times New Roman"/>
                </a:rPr>
                <a:t>INDIVIDUALES</a:t>
              </a:r>
              <a:r>
                <a:rPr b="1" lang="es-ES" sz="18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6" name="" descr=""/>
            <p:cNvPicPr/>
            <p:nvPr/>
          </p:nvPicPr>
          <p:blipFill>
            <a:blip r:embed="rId1"/>
            <a:stretch/>
          </p:blipFill>
          <p:spPr>
            <a:xfrm>
              <a:off x="533520" y="1371600"/>
              <a:ext cx="5790960" cy="643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3347640" y="6264720"/>
              <a:ext cx="801360" cy="312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UB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118320" y="3974400"/>
              <a:ext cx="686880" cy="312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CUBR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263480" y="4078440"/>
              <a:ext cx="686880" cy="312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CUBR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462120" y="1788480"/>
              <a:ext cx="686880" cy="312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CUBR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1" name=""/>
          <p:cNvSpPr txBox="1"/>
          <p:nvPr/>
        </p:nvSpPr>
        <p:spPr>
          <a:xfrm>
            <a:off x="2438280" y="758520"/>
            <a:ext cx="1607040" cy="39996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04920" y="304920"/>
            <a:ext cx="6248160" cy="861048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3" name=""/>
          <p:cNvGrpSpPr/>
          <p:nvPr/>
        </p:nvGrpSpPr>
        <p:grpSpPr>
          <a:xfrm>
            <a:off x="609480" y="1600200"/>
            <a:ext cx="5715000" cy="6972120"/>
            <a:chOff x="609480" y="1600200"/>
            <a:chExt cx="5715000" cy="6972120"/>
          </a:xfrm>
        </p:grpSpPr>
        <p:pic>
          <p:nvPicPr>
            <p:cNvPr id="134" name="" descr=""/>
            <p:cNvPicPr/>
            <p:nvPr/>
          </p:nvPicPr>
          <p:blipFill>
            <a:blip r:embed="rId1"/>
            <a:srcRect l="3125" t="0" r="3125" b="0"/>
            <a:stretch/>
          </p:blipFill>
          <p:spPr>
            <a:xfrm>
              <a:off x="703080" y="1600200"/>
              <a:ext cx="5621400" cy="622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"/>
            <p:cNvSpPr/>
            <p:nvPr/>
          </p:nvSpPr>
          <p:spPr>
            <a:xfrm>
              <a:off x="609480" y="8010360"/>
              <a:ext cx="544032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</a:rPr>
                <a:t>FUEGO Y MOVIMIENTOS DE GRUPOS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" name=""/>
          <p:cNvSpPr txBox="1"/>
          <p:nvPr/>
        </p:nvSpPr>
        <p:spPr>
          <a:xfrm>
            <a:off x="2309760" y="904320"/>
            <a:ext cx="1769400" cy="49212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04920" y="304920"/>
            <a:ext cx="6248160" cy="861048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838080" y="1523880"/>
            <a:ext cx="5334120" cy="594360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 txBox="1"/>
          <p:nvPr/>
        </p:nvSpPr>
        <p:spPr>
          <a:xfrm>
            <a:off x="2590920" y="605880"/>
            <a:ext cx="1483560" cy="39996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520" y="8077320"/>
            <a:ext cx="632448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ISTRIBUCIÓN DEL FUEGO MIENTRAS SE EMPLEA FUEGO Y MOVIMIENTO </a:t>
            </a:r>
            <a:r>
              <a:rPr b="0" lang="es-MX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  </a:t>
            </a:r>
            <a:r>
              <a:rPr b="0" lang="es-ES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MOVIMIENTO FRENTE DERECHA).</a:t>
            </a:r>
            <a:r>
              <a:rPr b="0" lang="es-ES" sz="1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04920" y="304920"/>
            <a:ext cx="6248160" cy="861048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 u="sng">
                <a:solidFill>
                  <a:srgbClr val="ff0000"/>
                </a:solidFill>
                <a:uFillTx/>
                <a:latin typeface="Times New Roman"/>
              </a:rPr>
              <a:t>COLUMNA DE MARCH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2717640" y="4815000"/>
            <a:ext cx="1600200" cy="685800"/>
            <a:chOff x="2717640" y="4815000"/>
            <a:chExt cx="1600200" cy="685800"/>
          </a:xfrm>
        </p:grpSpPr>
        <p:sp>
          <p:nvSpPr>
            <p:cNvPr id="144" name=""/>
            <p:cNvSpPr/>
            <p:nvPr/>
          </p:nvSpPr>
          <p:spPr>
            <a:xfrm>
              <a:off x="2717640" y="4815000"/>
              <a:ext cx="1600200" cy="68580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00ff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05920" y="4930560"/>
              <a:ext cx="1129680" cy="45720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Jefe de Escuadr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914400" y="4191120"/>
            <a:ext cx="1697040" cy="457200"/>
            <a:chOff x="914400" y="4191120"/>
            <a:chExt cx="1697040" cy="457200"/>
          </a:xfrm>
        </p:grpSpPr>
        <p:sp>
          <p:nvSpPr>
            <p:cNvPr id="147" name=""/>
            <p:cNvSpPr/>
            <p:nvPr/>
          </p:nvSpPr>
          <p:spPr>
            <a:xfrm>
              <a:off x="914400" y="4191120"/>
              <a:ext cx="1697040" cy="45720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56680" y="4305240"/>
              <a:ext cx="1212120" cy="2286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Jefe Eq. Alf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838080" y="2971800"/>
            <a:ext cx="1744920" cy="609480"/>
            <a:chOff x="838080" y="2971800"/>
            <a:chExt cx="1744920" cy="609480"/>
          </a:xfrm>
        </p:grpSpPr>
        <p:sp>
          <p:nvSpPr>
            <p:cNvPr id="150" name=""/>
            <p:cNvSpPr/>
            <p:nvPr/>
          </p:nvSpPr>
          <p:spPr>
            <a:xfrm>
              <a:off x="838080" y="2971800"/>
              <a:ext cx="1744920" cy="6094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962640" y="3125880"/>
              <a:ext cx="1374480" cy="30276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Fusilero </a:t>
              </a:r>
              <a:r>
                <a:rPr b="1" lang="es-MX" sz="14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ranader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4343400" y="5562720"/>
            <a:ext cx="1622520" cy="457200"/>
            <a:chOff x="4343400" y="5562720"/>
            <a:chExt cx="1622520" cy="457200"/>
          </a:xfrm>
        </p:grpSpPr>
        <p:sp>
          <p:nvSpPr>
            <p:cNvPr id="153" name=""/>
            <p:cNvSpPr/>
            <p:nvPr/>
          </p:nvSpPr>
          <p:spPr>
            <a:xfrm>
              <a:off x="4343400" y="5562720"/>
              <a:ext cx="1622520" cy="4572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575240" y="5676840"/>
              <a:ext cx="1271520" cy="2271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Jefe Eq.Brav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4419720" y="6781680"/>
            <a:ext cx="1600200" cy="457200"/>
            <a:chOff x="4419720" y="6781680"/>
            <a:chExt cx="1600200" cy="457200"/>
          </a:xfrm>
        </p:grpSpPr>
        <p:sp>
          <p:nvSpPr>
            <p:cNvPr id="156" name=""/>
            <p:cNvSpPr/>
            <p:nvPr/>
          </p:nvSpPr>
          <p:spPr>
            <a:xfrm>
              <a:off x="4419720" y="6781680"/>
              <a:ext cx="1600200" cy="4572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533840" y="6894720"/>
              <a:ext cx="1368360" cy="2286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Fusilero Granader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8" name=""/>
          <p:cNvGrpSpPr/>
          <p:nvPr/>
        </p:nvGrpSpPr>
        <p:grpSpPr>
          <a:xfrm>
            <a:off x="914400" y="5562720"/>
            <a:ext cx="1695600" cy="457200"/>
            <a:chOff x="914400" y="5562720"/>
            <a:chExt cx="1695600" cy="457200"/>
          </a:xfrm>
        </p:grpSpPr>
        <p:sp>
          <p:nvSpPr>
            <p:cNvPr id="159" name=""/>
            <p:cNvSpPr/>
            <p:nvPr/>
          </p:nvSpPr>
          <p:spPr>
            <a:xfrm>
              <a:off x="914400" y="5562720"/>
              <a:ext cx="1695600" cy="45720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156680" y="5676840"/>
              <a:ext cx="1211040" cy="2286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Fusiler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AT-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4343400" y="4191120"/>
            <a:ext cx="1600200" cy="457200"/>
            <a:chOff x="4343400" y="4191120"/>
            <a:chExt cx="1600200" cy="457200"/>
          </a:xfrm>
        </p:grpSpPr>
        <p:sp>
          <p:nvSpPr>
            <p:cNvPr id="162" name=""/>
            <p:cNvSpPr/>
            <p:nvPr/>
          </p:nvSpPr>
          <p:spPr>
            <a:xfrm>
              <a:off x="4343400" y="4191120"/>
              <a:ext cx="1600200" cy="4572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572000" y="4305240"/>
              <a:ext cx="1143000" cy="2286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Fusilero AT-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922320" y="6781680"/>
            <a:ext cx="1687680" cy="457200"/>
            <a:chOff x="922320" y="6781680"/>
            <a:chExt cx="1687680" cy="457200"/>
          </a:xfrm>
        </p:grpSpPr>
        <p:sp>
          <p:nvSpPr>
            <p:cNvPr id="165" name=""/>
            <p:cNvSpPr/>
            <p:nvPr/>
          </p:nvSpPr>
          <p:spPr>
            <a:xfrm>
              <a:off x="922320" y="6781680"/>
              <a:ext cx="1687680" cy="45720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163160" y="6895800"/>
              <a:ext cx="1205280" cy="2286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Fusiler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4267080" y="2895480"/>
            <a:ext cx="1590840" cy="609840"/>
            <a:chOff x="4267080" y="2895480"/>
            <a:chExt cx="1590840" cy="609840"/>
          </a:xfrm>
        </p:grpSpPr>
        <p:sp>
          <p:nvSpPr>
            <p:cNvPr id="168" name=""/>
            <p:cNvSpPr/>
            <p:nvPr/>
          </p:nvSpPr>
          <p:spPr>
            <a:xfrm>
              <a:off x="4267080" y="2895480"/>
              <a:ext cx="1590840" cy="6098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494240" y="3047760"/>
              <a:ext cx="1136160" cy="3045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Fusiler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304920" y="304920"/>
            <a:ext cx="6248160" cy="861048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 u="sng">
                <a:solidFill>
                  <a:srgbClr val="ff0000"/>
                </a:solidFill>
                <a:uFillTx/>
                <a:latin typeface="Times New Roman"/>
              </a:rPr>
              <a:t>ROMBO CERRAD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2714760" y="4002120"/>
            <a:ext cx="1600200" cy="685800"/>
            <a:chOff x="2714760" y="4002120"/>
            <a:chExt cx="1600200" cy="685800"/>
          </a:xfrm>
        </p:grpSpPr>
        <p:sp>
          <p:nvSpPr>
            <p:cNvPr id="173" name=""/>
            <p:cNvSpPr/>
            <p:nvPr/>
          </p:nvSpPr>
          <p:spPr>
            <a:xfrm>
              <a:off x="2714760" y="4002120"/>
              <a:ext cx="1600200" cy="68580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00ff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903040" y="4117680"/>
              <a:ext cx="1129680" cy="45720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Jefe de Escuadr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2765520" y="2617920"/>
            <a:ext cx="1697040" cy="457200"/>
            <a:chOff x="2765520" y="2617920"/>
            <a:chExt cx="1697040" cy="457200"/>
          </a:xfrm>
        </p:grpSpPr>
        <p:sp>
          <p:nvSpPr>
            <p:cNvPr id="176" name=""/>
            <p:cNvSpPr/>
            <p:nvPr/>
          </p:nvSpPr>
          <p:spPr>
            <a:xfrm>
              <a:off x="2765520" y="2617920"/>
              <a:ext cx="1697040" cy="45720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007800" y="2732040"/>
              <a:ext cx="1212120" cy="2286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Jefe Eq. Alf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1600200" y="3189240"/>
            <a:ext cx="1828800" cy="696960"/>
            <a:chOff x="1600200" y="3189240"/>
            <a:chExt cx="1828800" cy="696960"/>
          </a:xfrm>
        </p:grpSpPr>
        <p:sp>
          <p:nvSpPr>
            <p:cNvPr id="179" name=""/>
            <p:cNvSpPr/>
            <p:nvPr/>
          </p:nvSpPr>
          <p:spPr>
            <a:xfrm>
              <a:off x="1600200" y="3189240"/>
              <a:ext cx="1828800" cy="69696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730520" y="3365280"/>
              <a:ext cx="1440360" cy="34632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Fusilero </a:t>
              </a:r>
              <a:r>
                <a:rPr b="1" lang="es-MX" sz="1400" spc="-1" strike="noStrike">
                  <a:solidFill>
                    <a:srgbClr val="000000"/>
                  </a:solidFill>
                  <a:latin typeface="Times New Roman"/>
                </a:rPr>
                <a:t>Granader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1" name=""/>
          <p:cNvGrpSpPr/>
          <p:nvPr/>
        </p:nvGrpSpPr>
        <p:grpSpPr>
          <a:xfrm>
            <a:off x="2819520" y="5334120"/>
            <a:ext cx="1622160" cy="461880"/>
            <a:chOff x="2819520" y="5334120"/>
            <a:chExt cx="1622160" cy="461880"/>
          </a:xfrm>
        </p:grpSpPr>
        <p:sp>
          <p:nvSpPr>
            <p:cNvPr id="182" name=""/>
            <p:cNvSpPr/>
            <p:nvPr/>
          </p:nvSpPr>
          <p:spPr>
            <a:xfrm>
              <a:off x="2819520" y="5334120"/>
              <a:ext cx="1622160" cy="4618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051000" y="5449680"/>
              <a:ext cx="1271160" cy="2296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Jefe Eq.Brav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4" name=""/>
          <p:cNvGrpSpPr/>
          <p:nvPr/>
        </p:nvGrpSpPr>
        <p:grpSpPr>
          <a:xfrm>
            <a:off x="4114800" y="4724280"/>
            <a:ext cx="1600200" cy="685800"/>
            <a:chOff x="4114800" y="4724280"/>
            <a:chExt cx="1600200" cy="685800"/>
          </a:xfrm>
        </p:grpSpPr>
        <p:sp>
          <p:nvSpPr>
            <p:cNvPr id="185" name=""/>
            <p:cNvSpPr/>
            <p:nvPr/>
          </p:nvSpPr>
          <p:spPr>
            <a:xfrm>
              <a:off x="4114800" y="4724280"/>
              <a:ext cx="1600200" cy="6858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228920" y="4893840"/>
              <a:ext cx="1368360" cy="342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Fusilero Granader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7" name=""/>
          <p:cNvGrpSpPr/>
          <p:nvPr/>
        </p:nvGrpSpPr>
        <p:grpSpPr>
          <a:xfrm>
            <a:off x="3809880" y="3276720"/>
            <a:ext cx="1828800" cy="457200"/>
            <a:chOff x="3809880" y="3276720"/>
            <a:chExt cx="1828800" cy="457200"/>
          </a:xfrm>
        </p:grpSpPr>
        <p:sp>
          <p:nvSpPr>
            <p:cNvPr id="188" name=""/>
            <p:cNvSpPr/>
            <p:nvPr/>
          </p:nvSpPr>
          <p:spPr>
            <a:xfrm>
              <a:off x="3809880" y="3276720"/>
              <a:ext cx="1828800" cy="45720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070880" y="3390840"/>
              <a:ext cx="1306080" cy="2286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Fusilero</a:t>
              </a:r>
              <a:r>
                <a:rPr b="1" lang="es-MX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AT-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1295280" y="4952880"/>
            <a:ext cx="1832040" cy="457200"/>
            <a:chOff x="1295280" y="4952880"/>
            <a:chExt cx="1832040" cy="457200"/>
          </a:xfrm>
        </p:grpSpPr>
        <p:sp>
          <p:nvSpPr>
            <p:cNvPr id="191" name=""/>
            <p:cNvSpPr/>
            <p:nvPr/>
          </p:nvSpPr>
          <p:spPr>
            <a:xfrm>
              <a:off x="1295280" y="4952880"/>
              <a:ext cx="1832040" cy="4572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557000" y="5067000"/>
              <a:ext cx="1308240" cy="2286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000000"/>
                  </a:solidFill>
                  <a:latin typeface="Times New Roman"/>
                </a:rPr>
                <a:t>Fusilero </a:t>
              </a: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AT-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685800" y="4114800"/>
            <a:ext cx="1689120" cy="457200"/>
            <a:chOff x="685800" y="4114800"/>
            <a:chExt cx="1689120" cy="457200"/>
          </a:xfrm>
        </p:grpSpPr>
        <p:sp>
          <p:nvSpPr>
            <p:cNvPr id="194" name=""/>
            <p:cNvSpPr/>
            <p:nvPr/>
          </p:nvSpPr>
          <p:spPr>
            <a:xfrm>
              <a:off x="685800" y="4114800"/>
              <a:ext cx="1689120" cy="45720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927000" y="4228920"/>
              <a:ext cx="1206360" cy="2286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Fusiler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4724280" y="4038480"/>
            <a:ext cx="1592280" cy="457200"/>
            <a:chOff x="4724280" y="4038480"/>
            <a:chExt cx="1592280" cy="457200"/>
          </a:xfrm>
        </p:grpSpPr>
        <p:sp>
          <p:nvSpPr>
            <p:cNvPr id="197" name=""/>
            <p:cNvSpPr/>
            <p:nvPr/>
          </p:nvSpPr>
          <p:spPr>
            <a:xfrm>
              <a:off x="4724280" y="4038480"/>
              <a:ext cx="1592280" cy="4572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951800" y="4152600"/>
              <a:ext cx="1137240" cy="2286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Fusiler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304920" y="304920"/>
            <a:ext cx="6248160" cy="861048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5829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 u="sng">
                <a:solidFill>
                  <a:srgbClr val="ff0000"/>
                </a:solidFill>
                <a:uFillTx/>
                <a:latin typeface="Times New Roman"/>
              </a:rPr>
              <a:t>ROMBO ABIER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2744640" y="4338720"/>
            <a:ext cx="1675080" cy="685800"/>
            <a:chOff x="2744640" y="4338720"/>
            <a:chExt cx="1675080" cy="685800"/>
          </a:xfrm>
        </p:grpSpPr>
        <p:sp>
          <p:nvSpPr>
            <p:cNvPr id="202" name=""/>
            <p:cNvSpPr/>
            <p:nvPr/>
          </p:nvSpPr>
          <p:spPr>
            <a:xfrm>
              <a:off x="2744640" y="4338720"/>
              <a:ext cx="1675080" cy="68580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00ff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941560" y="4454280"/>
              <a:ext cx="1182240" cy="45720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Jefe de Escuadr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2473200" y="1839960"/>
            <a:ext cx="1774800" cy="455400"/>
            <a:chOff x="2473200" y="1839960"/>
            <a:chExt cx="1774800" cy="455400"/>
          </a:xfrm>
        </p:grpSpPr>
        <p:sp>
          <p:nvSpPr>
            <p:cNvPr id="205" name=""/>
            <p:cNvSpPr/>
            <p:nvPr/>
          </p:nvSpPr>
          <p:spPr>
            <a:xfrm>
              <a:off x="2473200" y="1839960"/>
              <a:ext cx="1774800" cy="45540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26640" y="1953720"/>
              <a:ext cx="1267560" cy="22788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Jefe Eq. Alf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1276200" y="3246480"/>
            <a:ext cx="1919520" cy="457200"/>
            <a:chOff x="1276200" y="3246480"/>
            <a:chExt cx="1919520" cy="457200"/>
          </a:xfrm>
        </p:grpSpPr>
        <p:sp>
          <p:nvSpPr>
            <p:cNvPr id="208" name=""/>
            <p:cNvSpPr/>
            <p:nvPr/>
          </p:nvSpPr>
          <p:spPr>
            <a:xfrm>
              <a:off x="1276200" y="3246480"/>
              <a:ext cx="1919520" cy="45720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413000" y="3362040"/>
              <a:ext cx="1512000" cy="22716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Fusilero granader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2895480" y="7315200"/>
            <a:ext cx="1698840" cy="461880"/>
            <a:chOff x="2895480" y="7315200"/>
            <a:chExt cx="1698840" cy="461880"/>
          </a:xfrm>
        </p:grpSpPr>
        <p:sp>
          <p:nvSpPr>
            <p:cNvPr id="211" name=""/>
            <p:cNvSpPr/>
            <p:nvPr/>
          </p:nvSpPr>
          <p:spPr>
            <a:xfrm>
              <a:off x="2895480" y="7315200"/>
              <a:ext cx="1698840" cy="4618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138120" y="7430760"/>
              <a:ext cx="1331280" cy="2296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Jefe Eq. Brav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4267080" y="5943600"/>
            <a:ext cx="1675080" cy="457200"/>
            <a:chOff x="4267080" y="5943600"/>
            <a:chExt cx="1675080" cy="457200"/>
          </a:xfrm>
        </p:grpSpPr>
        <p:sp>
          <p:nvSpPr>
            <p:cNvPr id="214" name=""/>
            <p:cNvSpPr/>
            <p:nvPr/>
          </p:nvSpPr>
          <p:spPr>
            <a:xfrm>
              <a:off x="4267080" y="5943600"/>
              <a:ext cx="1675080" cy="4572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386600" y="6056640"/>
              <a:ext cx="1432440" cy="2286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Fusilero Granader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4267080" y="3048120"/>
            <a:ext cx="1776600" cy="457200"/>
            <a:chOff x="4267080" y="3048120"/>
            <a:chExt cx="1776600" cy="457200"/>
          </a:xfrm>
        </p:grpSpPr>
        <p:sp>
          <p:nvSpPr>
            <p:cNvPr id="217" name=""/>
            <p:cNvSpPr/>
            <p:nvPr/>
          </p:nvSpPr>
          <p:spPr>
            <a:xfrm>
              <a:off x="4267080" y="3048120"/>
              <a:ext cx="1776600" cy="45720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520880" y="3162240"/>
              <a:ext cx="1269000" cy="2286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Fusilero AT-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1371600" y="5943600"/>
            <a:ext cx="1843200" cy="457200"/>
            <a:chOff x="1371600" y="5943600"/>
            <a:chExt cx="1843200" cy="457200"/>
          </a:xfrm>
        </p:grpSpPr>
        <p:sp>
          <p:nvSpPr>
            <p:cNvPr id="220" name=""/>
            <p:cNvSpPr/>
            <p:nvPr/>
          </p:nvSpPr>
          <p:spPr>
            <a:xfrm>
              <a:off x="1371600" y="5943600"/>
              <a:ext cx="1843200" cy="4572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634760" y="6057720"/>
              <a:ext cx="1316520" cy="2286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Fusilero AT-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457200" y="4495680"/>
            <a:ext cx="1768320" cy="457200"/>
            <a:chOff x="457200" y="4495680"/>
            <a:chExt cx="1768320" cy="457200"/>
          </a:xfrm>
        </p:grpSpPr>
        <p:sp>
          <p:nvSpPr>
            <p:cNvPr id="223" name=""/>
            <p:cNvSpPr/>
            <p:nvPr/>
          </p:nvSpPr>
          <p:spPr>
            <a:xfrm>
              <a:off x="457200" y="4495680"/>
              <a:ext cx="1768320" cy="45720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09560" y="4609800"/>
              <a:ext cx="1262880" cy="2286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Fusiler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4800600" y="4572000"/>
            <a:ext cx="1666800" cy="457200"/>
            <a:chOff x="4800600" y="4572000"/>
            <a:chExt cx="1666800" cy="457200"/>
          </a:xfrm>
        </p:grpSpPr>
        <p:sp>
          <p:nvSpPr>
            <p:cNvPr id="226" name=""/>
            <p:cNvSpPr/>
            <p:nvPr/>
          </p:nvSpPr>
          <p:spPr>
            <a:xfrm>
              <a:off x="4800600" y="4572000"/>
              <a:ext cx="1666800" cy="4572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038560" y="4686120"/>
              <a:ext cx="1190520" cy="2286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Fusiler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304920" y="304920"/>
            <a:ext cx="6248160" cy="861048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5829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 u="sng">
                <a:solidFill>
                  <a:srgbClr val="ff0000"/>
                </a:solidFill>
                <a:uFillTx/>
                <a:latin typeface="Times New Roman"/>
              </a:rPr>
              <a:t>COLUMNA DE UN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2590920" y="1981080"/>
            <a:ext cx="1600200" cy="685800"/>
            <a:chOff x="2590920" y="1981080"/>
            <a:chExt cx="1600200" cy="685800"/>
          </a:xfrm>
        </p:grpSpPr>
        <p:sp>
          <p:nvSpPr>
            <p:cNvPr id="231" name=""/>
            <p:cNvSpPr/>
            <p:nvPr/>
          </p:nvSpPr>
          <p:spPr>
            <a:xfrm>
              <a:off x="2590920" y="1981080"/>
              <a:ext cx="1600200" cy="68580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00ff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779200" y="2096640"/>
              <a:ext cx="1129680" cy="45720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Jefe de Escuadr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3" name=""/>
          <p:cNvGrpSpPr/>
          <p:nvPr/>
        </p:nvGrpSpPr>
        <p:grpSpPr>
          <a:xfrm>
            <a:off x="2514600" y="3581280"/>
            <a:ext cx="1697040" cy="457200"/>
            <a:chOff x="2514600" y="3581280"/>
            <a:chExt cx="1697040" cy="457200"/>
          </a:xfrm>
        </p:grpSpPr>
        <p:sp>
          <p:nvSpPr>
            <p:cNvPr id="234" name=""/>
            <p:cNvSpPr/>
            <p:nvPr/>
          </p:nvSpPr>
          <p:spPr>
            <a:xfrm>
              <a:off x="2514600" y="3581280"/>
              <a:ext cx="1697040" cy="45720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756880" y="3695400"/>
              <a:ext cx="1212120" cy="2286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Jefe de Eq. Alf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2514600" y="2895480"/>
            <a:ext cx="1689120" cy="457200"/>
            <a:chOff x="2514600" y="2895480"/>
            <a:chExt cx="1689120" cy="457200"/>
          </a:xfrm>
        </p:grpSpPr>
        <p:sp>
          <p:nvSpPr>
            <p:cNvPr id="237" name=""/>
            <p:cNvSpPr/>
            <p:nvPr/>
          </p:nvSpPr>
          <p:spPr>
            <a:xfrm>
              <a:off x="2514600" y="2895480"/>
              <a:ext cx="1689120" cy="45720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635200" y="3011040"/>
              <a:ext cx="1330560" cy="22716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Fusilero </a:t>
              </a:r>
              <a:r>
                <a:rPr b="1" lang="es-MX" sz="14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ranader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9" name=""/>
          <p:cNvGrpSpPr/>
          <p:nvPr/>
        </p:nvGrpSpPr>
        <p:grpSpPr>
          <a:xfrm>
            <a:off x="2590920" y="6400800"/>
            <a:ext cx="1622160" cy="463680"/>
            <a:chOff x="2590920" y="6400800"/>
            <a:chExt cx="1622160" cy="463680"/>
          </a:xfrm>
        </p:grpSpPr>
        <p:sp>
          <p:nvSpPr>
            <p:cNvPr id="240" name=""/>
            <p:cNvSpPr/>
            <p:nvPr/>
          </p:nvSpPr>
          <p:spPr>
            <a:xfrm>
              <a:off x="2590920" y="6400800"/>
              <a:ext cx="1622160" cy="4636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822400" y="6516720"/>
              <a:ext cx="1271160" cy="2304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Jefe de Eq. Brav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2" name=""/>
          <p:cNvGrpSpPr/>
          <p:nvPr/>
        </p:nvGrpSpPr>
        <p:grpSpPr>
          <a:xfrm>
            <a:off x="2590920" y="5715000"/>
            <a:ext cx="1600200" cy="457200"/>
            <a:chOff x="2590920" y="5715000"/>
            <a:chExt cx="1600200" cy="457200"/>
          </a:xfrm>
        </p:grpSpPr>
        <p:sp>
          <p:nvSpPr>
            <p:cNvPr id="243" name=""/>
            <p:cNvSpPr/>
            <p:nvPr/>
          </p:nvSpPr>
          <p:spPr>
            <a:xfrm>
              <a:off x="2590920" y="5715000"/>
              <a:ext cx="1600200" cy="4572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705040" y="5828040"/>
              <a:ext cx="1368360" cy="2286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Fusilero Granader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2514600" y="4343400"/>
            <a:ext cx="1697040" cy="457200"/>
            <a:chOff x="2514600" y="4343400"/>
            <a:chExt cx="1697040" cy="457200"/>
          </a:xfrm>
        </p:grpSpPr>
        <p:sp>
          <p:nvSpPr>
            <p:cNvPr id="246" name=""/>
            <p:cNvSpPr/>
            <p:nvPr/>
          </p:nvSpPr>
          <p:spPr>
            <a:xfrm>
              <a:off x="2514600" y="4343400"/>
              <a:ext cx="1697040" cy="45720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756880" y="4457520"/>
              <a:ext cx="1212120" cy="2286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Fusiler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AT-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8" name=""/>
          <p:cNvGrpSpPr/>
          <p:nvPr/>
        </p:nvGrpSpPr>
        <p:grpSpPr>
          <a:xfrm>
            <a:off x="2590920" y="7086600"/>
            <a:ext cx="1600200" cy="457200"/>
            <a:chOff x="2590920" y="7086600"/>
            <a:chExt cx="1600200" cy="457200"/>
          </a:xfrm>
        </p:grpSpPr>
        <p:sp>
          <p:nvSpPr>
            <p:cNvPr id="249" name=""/>
            <p:cNvSpPr/>
            <p:nvPr/>
          </p:nvSpPr>
          <p:spPr>
            <a:xfrm>
              <a:off x="2590920" y="7086600"/>
              <a:ext cx="1600200" cy="4572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819520" y="7200720"/>
              <a:ext cx="1143000" cy="2286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Fusilero AT-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2514600" y="1295280"/>
            <a:ext cx="1689120" cy="457200"/>
            <a:chOff x="2514600" y="1295280"/>
            <a:chExt cx="1689120" cy="457200"/>
          </a:xfrm>
        </p:grpSpPr>
        <p:sp>
          <p:nvSpPr>
            <p:cNvPr id="252" name=""/>
            <p:cNvSpPr/>
            <p:nvPr/>
          </p:nvSpPr>
          <p:spPr>
            <a:xfrm>
              <a:off x="2514600" y="1295280"/>
              <a:ext cx="1689120" cy="45720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755800" y="1409400"/>
              <a:ext cx="1206360" cy="2286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Fusiler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2590920" y="5029200"/>
            <a:ext cx="1592280" cy="457200"/>
            <a:chOff x="2590920" y="5029200"/>
            <a:chExt cx="1592280" cy="457200"/>
          </a:xfrm>
        </p:grpSpPr>
        <p:sp>
          <p:nvSpPr>
            <p:cNvPr id="255" name=""/>
            <p:cNvSpPr/>
            <p:nvPr/>
          </p:nvSpPr>
          <p:spPr>
            <a:xfrm>
              <a:off x="2590920" y="5029200"/>
              <a:ext cx="1592280" cy="4572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818440" y="5143320"/>
              <a:ext cx="1137240" cy="2286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Fusiler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7" name=""/>
          <p:cNvSpPr/>
          <p:nvPr/>
        </p:nvSpPr>
        <p:spPr>
          <a:xfrm>
            <a:off x="304920" y="304920"/>
            <a:ext cx="6248160" cy="861048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8" name=""/>
          <p:cNvGrpSpPr/>
          <p:nvPr/>
        </p:nvGrpSpPr>
        <p:grpSpPr>
          <a:xfrm>
            <a:off x="3641400" y="7536960"/>
            <a:ext cx="489600" cy="1382040"/>
            <a:chOff x="3641400" y="7536960"/>
            <a:chExt cx="489600" cy="1382040"/>
          </a:xfrm>
        </p:grpSpPr>
        <p:sp>
          <p:nvSpPr>
            <p:cNvPr id="259" name=""/>
            <p:cNvSpPr/>
            <p:nvPr/>
          </p:nvSpPr>
          <p:spPr>
            <a:xfrm rot="5318400">
              <a:off x="3200400" y="7999200"/>
              <a:ext cx="1371600" cy="4572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rot="5318400">
              <a:off x="3396600" y="8113680"/>
              <a:ext cx="979560" cy="2286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Fusilero AT-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914400" y="1066320"/>
            <a:ext cx="83808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0000"/>
                </a:solidFill>
                <a:latin typeface="Times New Roman"/>
              </a:rPr>
              <a:t>EN</a:t>
            </a:r>
            <a:br>
              <a:rPr sz="4400"/>
            </a:br>
            <a:br>
              <a:rPr sz="4400"/>
            </a:br>
            <a:r>
              <a:rPr b="0" lang="es-MX" sz="4400" spc="-1" strike="noStrike">
                <a:solidFill>
                  <a:srgbClr val="ff0000"/>
                </a:solidFill>
                <a:latin typeface="Times New Roman"/>
              </a:rPr>
              <a:t>L</a:t>
            </a:r>
            <a:br>
              <a:rPr sz="4400"/>
            </a:br>
            <a:r>
              <a:rPr b="0" lang="es-MX" sz="4400" spc="-1" strike="noStrike">
                <a:solidFill>
                  <a:srgbClr val="ff0000"/>
                </a:solidFill>
                <a:latin typeface="Times New Roman"/>
              </a:rPr>
              <a:t>Í</a:t>
            </a:r>
            <a:br>
              <a:rPr sz="4400"/>
            </a:br>
            <a:r>
              <a:rPr b="0" lang="es-MX" sz="4400" spc="-1" strike="noStrike">
                <a:solidFill>
                  <a:srgbClr val="ff0000"/>
                </a:solidFill>
                <a:latin typeface="Times New Roman"/>
              </a:rPr>
              <a:t>NE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3184560" y="1136880"/>
            <a:ext cx="568800" cy="1299600"/>
            <a:chOff x="3184560" y="1136880"/>
            <a:chExt cx="568800" cy="1299600"/>
          </a:xfrm>
        </p:grpSpPr>
        <p:sp>
          <p:nvSpPr>
            <p:cNvPr id="263" name=""/>
            <p:cNvSpPr/>
            <p:nvPr/>
          </p:nvSpPr>
          <p:spPr>
            <a:xfrm rot="5318400">
              <a:off x="2825280" y="1517400"/>
              <a:ext cx="1287360" cy="53820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00ff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rot="5318400">
              <a:off x="3012480" y="1568880"/>
              <a:ext cx="908640" cy="35892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Jefe de Escuadr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5" name=""/>
          <p:cNvGrpSpPr/>
          <p:nvPr/>
        </p:nvGrpSpPr>
        <p:grpSpPr>
          <a:xfrm>
            <a:off x="3189960" y="3116520"/>
            <a:ext cx="709920" cy="1234440"/>
            <a:chOff x="3189960" y="3116520"/>
            <a:chExt cx="709920" cy="1234440"/>
          </a:xfrm>
        </p:grpSpPr>
        <p:sp>
          <p:nvSpPr>
            <p:cNvPr id="266" name=""/>
            <p:cNvSpPr/>
            <p:nvPr/>
          </p:nvSpPr>
          <p:spPr>
            <a:xfrm rot="5322600">
              <a:off x="2935080" y="3392280"/>
              <a:ext cx="1219320" cy="68256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rot="5322600">
              <a:off x="3109320" y="3562920"/>
              <a:ext cx="870840" cy="34128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Jefe de Eq. Alf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3490560" y="2049840"/>
            <a:ext cx="713160" cy="1313640"/>
            <a:chOff x="3490560" y="2049840"/>
            <a:chExt cx="713160" cy="1313640"/>
          </a:xfrm>
        </p:grpSpPr>
        <p:sp>
          <p:nvSpPr>
            <p:cNvPr id="269" name=""/>
            <p:cNvSpPr/>
            <p:nvPr/>
          </p:nvSpPr>
          <p:spPr>
            <a:xfrm rot="5322600">
              <a:off x="3197880" y="2364480"/>
              <a:ext cx="1298520" cy="68400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 rot="5322600">
              <a:off x="3333960" y="2491200"/>
              <a:ext cx="1022760" cy="33984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Fusilero </a:t>
              </a:r>
              <a:r>
                <a:rPr b="1" lang="es-MX" sz="14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ranader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1" name=""/>
          <p:cNvGrpSpPr/>
          <p:nvPr/>
        </p:nvGrpSpPr>
        <p:grpSpPr>
          <a:xfrm>
            <a:off x="3413160" y="6717600"/>
            <a:ext cx="495360" cy="1364760"/>
            <a:chOff x="3413160" y="6717600"/>
            <a:chExt cx="495360" cy="1364760"/>
          </a:xfrm>
        </p:grpSpPr>
        <p:sp>
          <p:nvSpPr>
            <p:cNvPr id="272" name=""/>
            <p:cNvSpPr/>
            <p:nvPr/>
          </p:nvSpPr>
          <p:spPr>
            <a:xfrm rot="5320200">
              <a:off x="2983680" y="7167960"/>
              <a:ext cx="1354320" cy="4636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rot="5320200">
              <a:off x="3131640" y="7331760"/>
              <a:ext cx="1061280" cy="2304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Jefe de Eq. Brav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4" name=""/>
          <p:cNvGrpSpPr/>
          <p:nvPr/>
        </p:nvGrpSpPr>
        <p:grpSpPr>
          <a:xfrm>
            <a:off x="3642120" y="5784120"/>
            <a:ext cx="641880" cy="1306080"/>
            <a:chOff x="3642120" y="5784120"/>
            <a:chExt cx="641880" cy="1306080"/>
          </a:xfrm>
        </p:grpSpPr>
        <p:sp>
          <p:nvSpPr>
            <p:cNvPr id="275" name=""/>
            <p:cNvSpPr/>
            <p:nvPr/>
          </p:nvSpPr>
          <p:spPr>
            <a:xfrm rot="5318400">
              <a:off x="3317040" y="6131520"/>
              <a:ext cx="1292040" cy="611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5318400">
              <a:off x="3412800" y="6283080"/>
              <a:ext cx="1104840" cy="3052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Fusilero Granader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7" name=""/>
          <p:cNvGrpSpPr/>
          <p:nvPr/>
        </p:nvGrpSpPr>
        <p:grpSpPr>
          <a:xfrm>
            <a:off x="3567240" y="4031640"/>
            <a:ext cx="635400" cy="1235880"/>
            <a:chOff x="3567240" y="4031640"/>
            <a:chExt cx="635400" cy="1235880"/>
          </a:xfrm>
        </p:grpSpPr>
        <p:sp>
          <p:nvSpPr>
            <p:cNvPr id="278" name=""/>
            <p:cNvSpPr/>
            <p:nvPr/>
          </p:nvSpPr>
          <p:spPr>
            <a:xfrm rot="5322600">
              <a:off x="3273480" y="4345560"/>
              <a:ext cx="1222560" cy="60804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5322600">
              <a:off x="3448800" y="4497480"/>
              <a:ext cx="873000" cy="30384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Fusiler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AT-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0" name=""/>
          <p:cNvGrpSpPr/>
          <p:nvPr/>
        </p:nvGrpSpPr>
        <p:grpSpPr>
          <a:xfrm>
            <a:off x="3415680" y="380520"/>
            <a:ext cx="632160" cy="1149840"/>
            <a:chOff x="3415680" y="380520"/>
            <a:chExt cx="632160" cy="1149840"/>
          </a:xfrm>
        </p:grpSpPr>
        <p:sp>
          <p:nvSpPr>
            <p:cNvPr id="281" name=""/>
            <p:cNvSpPr/>
            <p:nvPr/>
          </p:nvSpPr>
          <p:spPr>
            <a:xfrm rot="5322600">
              <a:off x="3163320" y="651960"/>
              <a:ext cx="1136520" cy="60660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5322600">
              <a:off x="3326040" y="803880"/>
              <a:ext cx="811800" cy="30312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Fusiler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3" name=""/>
          <p:cNvGrpSpPr/>
          <p:nvPr/>
        </p:nvGrpSpPr>
        <p:grpSpPr>
          <a:xfrm>
            <a:off x="3262320" y="4945680"/>
            <a:ext cx="659520" cy="1186560"/>
            <a:chOff x="3262320" y="4945680"/>
            <a:chExt cx="659520" cy="1186560"/>
          </a:xfrm>
        </p:grpSpPr>
        <p:sp>
          <p:nvSpPr>
            <p:cNvPr id="284" name=""/>
            <p:cNvSpPr/>
            <p:nvPr/>
          </p:nvSpPr>
          <p:spPr>
            <a:xfrm rot="5318400">
              <a:off x="3006000" y="5222880"/>
              <a:ext cx="1171800" cy="6318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rot="5318400">
              <a:off x="3173400" y="5380920"/>
              <a:ext cx="837000" cy="315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Fusiler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6" name=""/>
          <p:cNvSpPr/>
          <p:nvPr/>
        </p:nvSpPr>
        <p:spPr>
          <a:xfrm>
            <a:off x="4648320" y="3429000"/>
            <a:ext cx="1371600" cy="1371600"/>
          </a:xfrm>
          <a:prstGeom prst="rightArrow">
            <a:avLst>
              <a:gd name="adj1" fmla="val 50000"/>
              <a:gd name="adj2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Enemi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04920" y="304920"/>
            <a:ext cx="6248160" cy="861048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 txBox="1"/>
          <p:nvPr/>
        </p:nvSpPr>
        <p:spPr>
          <a:xfrm>
            <a:off x="685800" y="762120"/>
            <a:ext cx="5638680" cy="23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479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Impact"/>
              </a:rPr>
              <a:t>Gracias por su Atenció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Impact"/>
              <a:ea typeface="Impact"/>
            </a:endParaRPr>
          </a:p>
        </p:txBody>
      </p:sp>
      <p:pic>
        <p:nvPicPr>
          <p:cNvPr id="289" name="PE02088_" descr=""/>
          <p:cNvPicPr/>
          <p:nvPr/>
        </p:nvPicPr>
        <p:blipFill>
          <a:blip r:embed="rId3"/>
          <a:stretch/>
        </p:blipFill>
        <p:spPr>
          <a:xfrm>
            <a:off x="762120" y="3073320"/>
            <a:ext cx="5263920" cy="344340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/>
          <p:nvPr/>
        </p:nvSpPr>
        <p:spPr>
          <a:xfrm>
            <a:off x="1600200" y="6629400"/>
            <a:ext cx="5029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Stte. (Ej.) Medina Colón Antoni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Stte. (Ej.) Sojo Hernández Fernan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04920" y="304920"/>
            <a:ext cx="6248160" cy="861048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838080" y="8077320"/>
            <a:ext cx="563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Times New Roman"/>
              </a:rPr>
              <a:t>Revisado´por el Tte. (Ej.) Ángel Balestrini Jaramill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6039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FORMACIONES DE LA ESCUADRA</a:t>
            </a:r>
            <a:br>
              <a:rPr sz="3600"/>
            </a:br>
            <a:r>
              <a:rPr b="0" lang="es-E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s formaciones de combate de </a:t>
            </a:r>
            <a:r>
              <a:rPr b="1" lang="es-MX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escuadra, son agrupaciones de</a:t>
            </a:r>
            <a:r>
              <a:rPr b="1" lang="es-MX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dividuos,    adoptadas para lograr su más eficiente empleo táctico en el combate</a:t>
            </a:r>
            <a:r>
              <a:rPr b="1" lang="es-MX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-1143360" y="4800240"/>
            <a:ext cx="6629400" cy="32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2057400" indent="0" algn="ctr"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TIPOS DE FORMACIONES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 algn="just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just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    En Rombo  Cerrad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just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   En  Rombo Abier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just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   En Línea de Tirador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just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)   En Columna de March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just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   En Columna de Un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04920" y="304920"/>
            <a:ext cx="6248160" cy="861048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SEÑALES DE BRAZOS Y MANOS</a:t>
            </a:r>
            <a:br>
              <a:rPr sz="3200"/>
            </a:br>
            <a:br>
              <a:rPr sz="3200"/>
            </a:b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n medios comunes de transmitir mensajes visuales, lo que permite 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e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ista un mayor control entre el soldado y otras personas o unida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14440" y="4114440"/>
            <a:ext cx="5829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 u="sng">
                <a:solidFill>
                  <a:srgbClr val="ff0000"/>
                </a:solidFill>
                <a:uFillTx/>
                <a:latin typeface="Times New Roman"/>
              </a:rPr>
              <a:t>TIPOS DE SEÑALES DE BRAZOS Y MAN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EN LIN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EN ROMB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COLUMNA DE MARCH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COLUMNA DE UN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NO COMPREN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ENEMIGO A LA VIS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ROMPAN FUEG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CESEN FUE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CALAR BAYONE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04920" y="304920"/>
            <a:ext cx="6248160" cy="861048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CUADRA EN LINEA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143000" y="2895480"/>
            <a:ext cx="4800600" cy="4676760"/>
            <a:chOff x="1143000" y="2895480"/>
            <a:chExt cx="4800600" cy="4676760"/>
          </a:xfrm>
        </p:grpSpPr>
        <p:pic>
          <p:nvPicPr>
            <p:cNvPr id="58" name="MVC-006F" descr=""/>
            <p:cNvPicPr/>
            <p:nvPr/>
          </p:nvPicPr>
          <p:blipFill>
            <a:blip r:embed="rId1">
              <a:lum bright="30000"/>
            </a:blip>
            <a:stretch/>
          </p:blipFill>
          <p:spPr>
            <a:xfrm>
              <a:off x="1143000" y="2895480"/>
              <a:ext cx="4800600" cy="467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1485720" y="3227760"/>
              <a:ext cx="4114800" cy="457200"/>
            </a:xfrm>
            <a:prstGeom prst="leftRightArrow">
              <a:avLst>
                <a:gd name="adj1" fmla="val 50000"/>
                <a:gd name="adj2" fmla="val 179167"/>
              </a:avLst>
            </a:prstGeom>
            <a:solidFill>
              <a:srgbClr val="99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304920" y="304920"/>
            <a:ext cx="6248160" cy="861048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CUADRA EN ROMBO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MVC-012F" descr=""/>
          <p:cNvPicPr/>
          <p:nvPr/>
        </p:nvPicPr>
        <p:blipFill>
          <a:blip r:embed="rId1">
            <a:lum bright="36000"/>
          </a:blip>
          <a:stretch/>
        </p:blipFill>
        <p:spPr>
          <a:xfrm>
            <a:off x="514440" y="2743200"/>
            <a:ext cx="5829120" cy="47926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304920" y="304920"/>
            <a:ext cx="6248160" cy="861048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CUADRA EN </a:t>
            </a:r>
            <a:r>
              <a:rPr b="1" lang="es-E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LUMNA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533520" y="2590920"/>
            <a:ext cx="5867280" cy="5562360"/>
            <a:chOff x="533520" y="2590920"/>
            <a:chExt cx="5867280" cy="5562360"/>
          </a:xfrm>
        </p:grpSpPr>
        <p:pic>
          <p:nvPicPr>
            <p:cNvPr id="67" name="MVC-006F" descr=""/>
            <p:cNvPicPr/>
            <p:nvPr/>
          </p:nvPicPr>
          <p:blipFill>
            <a:blip r:embed="rId1">
              <a:lum bright="18000"/>
            </a:blip>
            <a:stretch/>
          </p:blipFill>
          <p:spPr>
            <a:xfrm>
              <a:off x="533520" y="2590920"/>
              <a:ext cx="5867280" cy="556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 rot="7181400">
              <a:off x="1577880" y="4114440"/>
              <a:ext cx="3974040" cy="2743560"/>
            </a:xfrm>
            <a:custGeom>
              <a:avLst/>
              <a:gdLst>
                <a:gd name="textAreaLeft" fmla="*/ 0 w 3974040"/>
                <a:gd name="textAreaRight" fmla="*/ 3974400 w 3974040"/>
                <a:gd name="textAreaTop" fmla="*/ 0 h 2743560"/>
                <a:gd name="textAreaBottom" fmla="*/ 2743920 h 2743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366" y="10784"/>
                  </a:moveTo>
                  <a:arcTo wR="-9434" hR="-9434" stAng="-10794170" swAng="-15367891"/>
                  <a:lnTo>
                    <a:pt x="8194" y="21281"/>
                  </a:lnTo>
                  <a:arcTo wR="10800" hR="10800" stAng="6237939" swAng="15367891"/>
                  <a:lnTo>
                    <a:pt x="24300" y="10823"/>
                  </a:lnTo>
                  <a:lnTo>
                    <a:pt x="20911" y="14200"/>
                  </a:lnTo>
                  <a:lnTo>
                    <a:pt x="17534" y="10811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304920" y="304920"/>
            <a:ext cx="6248160" cy="861048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ÍGANME (AVANCE)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533520" y="2590920"/>
            <a:ext cx="5867280" cy="5524560"/>
            <a:chOff x="533520" y="2590920"/>
            <a:chExt cx="5867280" cy="5524560"/>
          </a:xfrm>
        </p:grpSpPr>
        <p:pic>
          <p:nvPicPr>
            <p:cNvPr id="73" name="MVC-001F" descr=""/>
            <p:cNvPicPr/>
            <p:nvPr/>
          </p:nvPicPr>
          <p:blipFill>
            <a:blip r:embed="rId1">
              <a:lum bright="18000"/>
            </a:blip>
            <a:stretch/>
          </p:blipFill>
          <p:spPr>
            <a:xfrm>
              <a:off x="533520" y="2590920"/>
              <a:ext cx="5867280" cy="552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"/>
            <p:cNvSpPr/>
            <p:nvPr/>
          </p:nvSpPr>
          <p:spPr>
            <a:xfrm>
              <a:off x="1622520" y="2748960"/>
              <a:ext cx="3088440" cy="890640"/>
            </a:xfrm>
            <a:custGeom>
              <a:avLst/>
              <a:gdLst>
                <a:gd name="textAreaLeft" fmla="*/ 585000 w 3088440"/>
                <a:gd name="textAreaRight" fmla="*/ 2015280 w 3088440"/>
                <a:gd name="textAreaTop" fmla="*/ 119160 h 890640"/>
                <a:gd name="textAreaBottom" fmla="*/ 771480 h 890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8186" hR="21600" stAng="10800000" swAng="5400000"/>
                  <a:lnTo>
                    <a:pt x="10002" y="0"/>
                  </a:lnTo>
                  <a:arcTo wR="8186" hR="21600" stAng="-5400000" swAng="1132966"/>
                  <a:lnTo>
                    <a:pt x="18899" y="5565"/>
                  </a:lnTo>
                  <a:lnTo>
                    <a:pt x="17280" y="21600"/>
                  </a:lnTo>
                  <a:lnTo>
                    <a:pt x="10259" y="5565"/>
                  </a:lnTo>
                  <a:lnTo>
                    <a:pt x="13671" y="5565"/>
                  </a:lnTo>
                  <a:arcTo wR="8186" hR="21600" stAng="-4267034" swAng="-987643"/>
                  <a:lnTo>
                    <a:pt x="9094" y="133"/>
                  </a:lnTo>
                  <a:arcTo wR="8186" hR="21600" stAng="-5545323" swAng="-5254677"/>
                  <a:close/>
                </a:path>
                <a:path fill="darkenLess" w="21600" h="21600">
                  <a:moveTo>
                    <a:pt x="0" y="21600"/>
                  </a:moveTo>
                  <a:arcTo wR="8186" hR="21600" stAng="10800000" swAng="5400000"/>
                  <a:lnTo>
                    <a:pt x="8186" y="0"/>
                  </a:lnTo>
                  <a:arcTo wR="8186" hR="21600" stAng="-5400000" swAng="145323"/>
                  <a:lnTo>
                    <a:pt x="9094" y="133"/>
                  </a:lnTo>
                  <a:arcTo wR="8186" hR="21600" stAng="-5545323" swAng="-5254677"/>
                  <a:close/>
                </a:path>
              </a:pathLst>
            </a:custGeom>
            <a:gradFill rotWithShape="0">
              <a:gsLst>
                <a:gs pos="0">
                  <a:srgbClr val="750000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" name=""/>
          <p:cNvSpPr/>
          <p:nvPr/>
        </p:nvSpPr>
        <p:spPr>
          <a:xfrm>
            <a:off x="304920" y="304920"/>
            <a:ext cx="6248160" cy="861048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UNIÓ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33520" y="2590920"/>
            <a:ext cx="5790600" cy="5562000"/>
            <a:chOff x="533520" y="2590920"/>
            <a:chExt cx="5790600" cy="5562000"/>
          </a:xfrm>
        </p:grpSpPr>
        <p:pic>
          <p:nvPicPr>
            <p:cNvPr id="78" name="MVC-003F" descr=""/>
            <p:cNvPicPr/>
            <p:nvPr/>
          </p:nvPicPr>
          <p:blipFill>
            <a:blip r:embed="rId1">
              <a:lum bright="24000"/>
            </a:blip>
            <a:stretch/>
          </p:blipFill>
          <p:spPr>
            <a:xfrm>
              <a:off x="533520" y="2632680"/>
              <a:ext cx="2968920" cy="257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" name="MVC-004F" descr=""/>
            <p:cNvPicPr/>
            <p:nvPr/>
          </p:nvPicPr>
          <p:blipFill>
            <a:blip r:embed="rId2">
              <a:lum bright="24000"/>
            </a:blip>
            <a:stretch/>
          </p:blipFill>
          <p:spPr>
            <a:xfrm>
              <a:off x="3484440" y="2627640"/>
              <a:ext cx="2839680" cy="2582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" name="MVC-005F" descr=""/>
            <p:cNvPicPr/>
            <p:nvPr/>
          </p:nvPicPr>
          <p:blipFill>
            <a:blip r:embed="rId3">
              <a:lum bright="18000"/>
            </a:blip>
            <a:stretch/>
          </p:blipFill>
          <p:spPr>
            <a:xfrm>
              <a:off x="1821600" y="5461920"/>
              <a:ext cx="3586320" cy="2691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1" name=""/>
            <p:cNvGrpSpPr/>
            <p:nvPr/>
          </p:nvGrpSpPr>
          <p:grpSpPr>
            <a:xfrm>
              <a:off x="1807200" y="5344920"/>
              <a:ext cx="1905120" cy="885600"/>
              <a:chOff x="1807200" y="5344920"/>
              <a:chExt cx="1905120" cy="885600"/>
            </a:xfrm>
          </p:grpSpPr>
          <p:sp>
            <p:nvSpPr>
              <p:cNvPr id="82" name=""/>
              <p:cNvSpPr/>
              <p:nvPr/>
            </p:nvSpPr>
            <p:spPr>
              <a:xfrm>
                <a:off x="2865600" y="5443560"/>
                <a:ext cx="846720" cy="786960"/>
              </a:xfrm>
              <a:custGeom>
                <a:avLst/>
                <a:gdLst>
                  <a:gd name="textAreaLeft" fmla="*/ 113400 w 846720"/>
                  <a:gd name="textAreaRight" fmla="*/ 733320 w 846720"/>
                  <a:gd name="textAreaTop" fmla="*/ 137520 h 786960"/>
                  <a:gd name="textAreaBottom" fmla="*/ 570600 h 786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arcTo wR="21600" hR="7560" stAng="-5400000" swAng="5400000"/>
                    <a:lnTo>
                      <a:pt x="21600" y="11880"/>
                    </a:lnTo>
                    <a:arcTo wR="21600" hR="7560" stAng="0" swAng="2682637"/>
                    <a:lnTo>
                      <a:pt x="7200" y="21168"/>
                    </a:lnTo>
                    <a:lnTo>
                      <a:pt x="0" y="17280"/>
                    </a:lnTo>
                    <a:lnTo>
                      <a:pt x="7200" y="12528"/>
                    </a:lnTo>
                    <a:lnTo>
                      <a:pt x="7200" y="14688"/>
                    </a:lnTo>
                    <a:arcTo wR="21600" hR="7560" stAng="2682637" swAng="-2325203"/>
                    <a:lnTo>
                      <a:pt x="20700" y="9720"/>
                    </a:lnTo>
                    <a:arcTo wR="21600" hR="7560" stAng="-357435" swAng="-5042565"/>
                    <a:close/>
                  </a:path>
                  <a:path fill="darkenLess" w="21600" h="21600">
                    <a:moveTo>
                      <a:pt x="0" y="0"/>
                    </a:moveTo>
                    <a:arcTo wR="21600" hR="7560" stAng="-5400000" swAng="5400000"/>
                    <a:lnTo>
                      <a:pt x="21600" y="11880"/>
                    </a:lnTo>
                    <a:arcTo wR="21600" hR="7560" stAng="0" swAng="-357435"/>
                    <a:lnTo>
                      <a:pt x="20700" y="9720"/>
                    </a:lnTo>
                    <a:arcTo wR="21600" hR="7560" stAng="-357435" swAng="-5042565"/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flipV="1">
                <a:off x="1807200" y="5344560"/>
                <a:ext cx="635040" cy="885240"/>
              </a:xfrm>
              <a:custGeom>
                <a:avLst/>
                <a:gdLst>
                  <a:gd name="textAreaLeft" fmla="*/ 84960 w 635040"/>
                  <a:gd name="textAreaRight" fmla="*/ 550080 w 635040"/>
                  <a:gd name="textAreaTop" fmla="*/ 154800 h 885240"/>
                  <a:gd name="textAreaBottom" fmla="*/ 641880 h 885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arcTo wR="21600" hR="7560" stAng="-5400000" swAng="5400000"/>
                    <a:lnTo>
                      <a:pt x="21600" y="11880"/>
                    </a:lnTo>
                    <a:arcTo wR="21600" hR="7560" stAng="0" swAng="2682637"/>
                    <a:lnTo>
                      <a:pt x="7200" y="21168"/>
                    </a:lnTo>
                    <a:lnTo>
                      <a:pt x="0" y="17280"/>
                    </a:lnTo>
                    <a:lnTo>
                      <a:pt x="7200" y="12528"/>
                    </a:lnTo>
                    <a:lnTo>
                      <a:pt x="7200" y="14688"/>
                    </a:lnTo>
                    <a:arcTo wR="21600" hR="7560" stAng="2682637" swAng="-2325203"/>
                    <a:lnTo>
                      <a:pt x="20700" y="9720"/>
                    </a:lnTo>
                    <a:arcTo wR="21600" hR="7560" stAng="-357435" swAng="-5042565"/>
                    <a:close/>
                  </a:path>
                  <a:path fill="darkenLess" w="21600" h="21600">
                    <a:moveTo>
                      <a:pt x="0" y="0"/>
                    </a:moveTo>
                    <a:arcTo wR="21600" hR="7560" stAng="-5400000" swAng="5400000"/>
                    <a:lnTo>
                      <a:pt x="21600" y="11880"/>
                    </a:lnTo>
                    <a:arcTo wR="21600" hR="7560" stAng="0" swAng="-357435"/>
                    <a:lnTo>
                      <a:pt x="20700" y="9720"/>
                    </a:lnTo>
                    <a:arcTo wR="21600" hR="7560" stAng="-357435" swAng="-5042565"/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" name=""/>
            <p:cNvGrpSpPr/>
            <p:nvPr/>
          </p:nvGrpSpPr>
          <p:grpSpPr>
            <a:xfrm>
              <a:off x="3841560" y="2590920"/>
              <a:ext cx="1412640" cy="890640"/>
              <a:chOff x="3841560" y="2590920"/>
              <a:chExt cx="1412640" cy="890640"/>
            </a:xfrm>
          </p:grpSpPr>
          <p:sp>
            <p:nvSpPr>
              <p:cNvPr id="85" name=""/>
              <p:cNvSpPr/>
              <p:nvPr/>
            </p:nvSpPr>
            <p:spPr>
              <a:xfrm>
                <a:off x="4626360" y="2689920"/>
                <a:ext cx="627840" cy="791640"/>
              </a:xfrm>
              <a:custGeom>
                <a:avLst/>
                <a:gdLst>
                  <a:gd name="textAreaLeft" fmla="*/ 83880 w 627840"/>
                  <a:gd name="textAreaRight" fmla="*/ 543960 w 627840"/>
                  <a:gd name="textAreaTop" fmla="*/ 138600 h 791640"/>
                  <a:gd name="textAreaBottom" fmla="*/ 574200 h 791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arcTo wR="21600" hR="7560" stAng="-5400000" swAng="5400000"/>
                    <a:lnTo>
                      <a:pt x="21600" y="11880"/>
                    </a:lnTo>
                    <a:arcTo wR="21600" hR="7560" stAng="0" swAng="2682637"/>
                    <a:lnTo>
                      <a:pt x="7200" y="21168"/>
                    </a:lnTo>
                    <a:lnTo>
                      <a:pt x="0" y="17280"/>
                    </a:lnTo>
                    <a:lnTo>
                      <a:pt x="7200" y="12528"/>
                    </a:lnTo>
                    <a:lnTo>
                      <a:pt x="7200" y="14688"/>
                    </a:lnTo>
                    <a:arcTo wR="21600" hR="7560" stAng="2682637" swAng="-2325203"/>
                    <a:lnTo>
                      <a:pt x="20700" y="9720"/>
                    </a:lnTo>
                    <a:arcTo wR="21600" hR="7560" stAng="-357435" swAng="-5042565"/>
                    <a:close/>
                  </a:path>
                  <a:path fill="darkenLess" w="21600" h="21600">
                    <a:moveTo>
                      <a:pt x="0" y="0"/>
                    </a:moveTo>
                    <a:arcTo wR="21600" hR="7560" stAng="-5400000" swAng="5400000"/>
                    <a:lnTo>
                      <a:pt x="21600" y="11880"/>
                    </a:lnTo>
                    <a:arcTo wR="21600" hR="7560" stAng="0" swAng="-357435"/>
                    <a:lnTo>
                      <a:pt x="20700" y="9720"/>
                    </a:lnTo>
                    <a:arcTo wR="21600" hR="7560" stAng="-357435" swAng="-5042565"/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flipV="1">
                <a:off x="3841560" y="2590920"/>
                <a:ext cx="470880" cy="890640"/>
              </a:xfrm>
              <a:custGeom>
                <a:avLst/>
                <a:gdLst>
                  <a:gd name="textAreaLeft" fmla="*/ 63000 w 470880"/>
                  <a:gd name="textAreaRight" fmla="*/ 407880 w 470880"/>
                  <a:gd name="textAreaTop" fmla="*/ 156240 h 890640"/>
                  <a:gd name="textAreaBottom" fmla="*/ 646200 h 890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arcTo wR="21600" hR="7560" stAng="-5400000" swAng="5400000"/>
                    <a:lnTo>
                      <a:pt x="21600" y="11880"/>
                    </a:lnTo>
                    <a:arcTo wR="21600" hR="7560" stAng="0" swAng="2682637"/>
                    <a:lnTo>
                      <a:pt x="7200" y="21168"/>
                    </a:lnTo>
                    <a:lnTo>
                      <a:pt x="0" y="17280"/>
                    </a:lnTo>
                    <a:lnTo>
                      <a:pt x="7200" y="12528"/>
                    </a:lnTo>
                    <a:lnTo>
                      <a:pt x="7200" y="14688"/>
                    </a:lnTo>
                    <a:arcTo wR="21600" hR="7560" stAng="2682637" swAng="-2325203"/>
                    <a:lnTo>
                      <a:pt x="20700" y="9720"/>
                    </a:lnTo>
                    <a:arcTo wR="21600" hR="7560" stAng="-357435" swAng="-5042565"/>
                    <a:close/>
                  </a:path>
                  <a:path fill="darkenLess" w="21600" h="21600">
                    <a:moveTo>
                      <a:pt x="0" y="0"/>
                    </a:moveTo>
                    <a:arcTo wR="21600" hR="7560" stAng="-5400000" swAng="5400000"/>
                    <a:lnTo>
                      <a:pt x="21600" y="11880"/>
                    </a:lnTo>
                    <a:arcTo wR="21600" hR="7560" stAng="0" swAng="-357435"/>
                    <a:lnTo>
                      <a:pt x="20700" y="9720"/>
                    </a:lnTo>
                    <a:arcTo wR="21600" hR="7560" stAng="-357435" swAng="-5042565"/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757800" y="2696400"/>
              <a:ext cx="1565280" cy="889920"/>
              <a:chOff x="757800" y="2696400"/>
              <a:chExt cx="1565280" cy="889920"/>
            </a:xfrm>
          </p:grpSpPr>
          <p:sp>
            <p:nvSpPr>
              <p:cNvPr id="88" name=""/>
              <p:cNvSpPr/>
              <p:nvPr/>
            </p:nvSpPr>
            <p:spPr>
              <a:xfrm>
                <a:off x="1627560" y="2795040"/>
                <a:ext cx="695520" cy="790920"/>
              </a:xfrm>
              <a:custGeom>
                <a:avLst/>
                <a:gdLst>
                  <a:gd name="textAreaLeft" fmla="*/ 92880 w 695520"/>
                  <a:gd name="textAreaRight" fmla="*/ 602640 w 695520"/>
                  <a:gd name="textAreaTop" fmla="*/ 138240 h 790920"/>
                  <a:gd name="textAreaBottom" fmla="*/ 573480 h 790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arcTo wR="21600" hR="7560" stAng="-5400000" swAng="5400000"/>
                    <a:lnTo>
                      <a:pt x="21600" y="11880"/>
                    </a:lnTo>
                    <a:arcTo wR="21600" hR="7560" stAng="0" swAng="2682637"/>
                    <a:lnTo>
                      <a:pt x="7200" y="21168"/>
                    </a:lnTo>
                    <a:lnTo>
                      <a:pt x="0" y="17280"/>
                    </a:lnTo>
                    <a:lnTo>
                      <a:pt x="7200" y="12528"/>
                    </a:lnTo>
                    <a:lnTo>
                      <a:pt x="7200" y="14688"/>
                    </a:lnTo>
                    <a:arcTo wR="21600" hR="7560" stAng="2682637" swAng="-2325203"/>
                    <a:lnTo>
                      <a:pt x="20700" y="9720"/>
                    </a:lnTo>
                    <a:arcTo wR="21600" hR="7560" stAng="-357435" swAng="-5042565"/>
                    <a:close/>
                  </a:path>
                  <a:path fill="darkenLess" w="21600" h="21600">
                    <a:moveTo>
                      <a:pt x="0" y="0"/>
                    </a:moveTo>
                    <a:arcTo wR="21600" hR="7560" stAng="-5400000" swAng="5400000"/>
                    <a:lnTo>
                      <a:pt x="21600" y="11880"/>
                    </a:lnTo>
                    <a:arcTo wR="21600" hR="7560" stAng="0" swAng="-357435"/>
                    <a:lnTo>
                      <a:pt x="20700" y="9720"/>
                    </a:lnTo>
                    <a:arcTo wR="21600" hR="7560" stAng="-357435" swAng="-5042565"/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H="1" flipV="1">
                <a:off x="757440" y="2696400"/>
                <a:ext cx="521640" cy="889920"/>
              </a:xfrm>
              <a:custGeom>
                <a:avLst/>
                <a:gdLst>
                  <a:gd name="textAreaLeft" fmla="*/ 69840 w 521640"/>
                  <a:gd name="textAreaRight" fmla="*/ 451800 w 521640"/>
                  <a:gd name="textAreaTop" fmla="*/ 155520 h 889920"/>
                  <a:gd name="textAreaBottom" fmla="*/ 645120 h 889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arcTo wR="21600" hR="7560" stAng="-5400000" swAng="5400000"/>
                    <a:lnTo>
                      <a:pt x="21600" y="11880"/>
                    </a:lnTo>
                    <a:arcTo wR="21600" hR="7560" stAng="0" swAng="2682637"/>
                    <a:lnTo>
                      <a:pt x="7200" y="21168"/>
                    </a:lnTo>
                    <a:lnTo>
                      <a:pt x="0" y="17280"/>
                    </a:lnTo>
                    <a:lnTo>
                      <a:pt x="7200" y="12528"/>
                    </a:lnTo>
                    <a:lnTo>
                      <a:pt x="7200" y="14688"/>
                    </a:lnTo>
                    <a:arcTo wR="21600" hR="7560" stAng="2682637" swAng="-2325203"/>
                    <a:lnTo>
                      <a:pt x="20700" y="9720"/>
                    </a:lnTo>
                    <a:arcTo wR="21600" hR="7560" stAng="-357435" swAng="-5042565"/>
                    <a:close/>
                  </a:path>
                  <a:path fill="darkenLess" w="21600" h="21600">
                    <a:moveTo>
                      <a:pt x="0" y="0"/>
                    </a:moveTo>
                    <a:arcTo wR="21600" hR="7560" stAng="-5400000" swAng="5400000"/>
                    <a:lnTo>
                      <a:pt x="21600" y="11880"/>
                    </a:lnTo>
                    <a:arcTo wR="21600" hR="7560" stAng="0" swAng="-357435"/>
                    <a:lnTo>
                      <a:pt x="20700" y="9720"/>
                    </a:lnTo>
                    <a:arcTo wR="21600" hR="7560" stAng="-357435" swAng="-5042565"/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0" name=""/>
          <p:cNvSpPr/>
          <p:nvPr/>
        </p:nvSpPr>
        <p:spPr>
          <a:xfrm>
            <a:off x="304920" y="304920"/>
            <a:ext cx="6248160" cy="861048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5T12:20:15Z</dcterms:created>
  <dc:creator>Tte. (Ej.) Ángel Balestrini J.</dc:creator>
  <dc:description/>
  <dc:language>en-US</dc:language>
  <cp:lastModifiedBy>carlos martinez</cp:lastModifiedBy>
  <dcterms:modified xsi:type="dcterms:W3CDTF">2001-09-30T21:49:14Z</dcterms:modified>
  <cp:revision>20</cp:revision>
  <dc:subject/>
  <dc:title>Ayuda de Instrucción Orden Abierto</dc:title>
</cp:coreProperties>
</file>